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477-D732-449F-9759-59F93014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2D7-FF3D-4CEB-B70B-D55D0A94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112-3B39-4ED9-8E68-B5D13228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2EA-1F06-455A-B6F2-3825F3A4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F82A-7ACA-4CAE-98B8-D10F34F4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1B0C-096B-4C20-B4EC-1D8E463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E02A-BA54-435A-822F-8DFAD43D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6761-99C5-4C4B-B8E7-ED5C75C7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367A-B964-4A16-AF36-4027D7E8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15F6-01FF-4CCA-ABF9-AB377A84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9C13-324C-464A-BC3E-D25BC878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BFE-0125-46C2-B3F6-B09D2502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C88A-8D15-4007-B548-D356094C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4795-3D4F-4228-B2F6-9E2C50E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4A5C-4793-4144-B27A-0B6DCCF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89F3-E636-45C5-8D41-C0D9399D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8895-627F-450B-B7DF-ED5D0C60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BBF-3034-480A-8F5C-80FF9917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DA5-454E-4FFD-91CB-8095D62D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C97-6BDC-4EC5-B25F-564B594E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7E2-5C4E-4C85-90EF-E223A49D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B1C-95E1-43A2-82DF-124BE43F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027-1BA3-4CAB-AA0A-2138E3B5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E9C-8AF4-4C1B-8927-8A9BC395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115A-7A30-41B0-A51F-5060C735BC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BEE3-DB7E-4E71-996F-BC5ED8C7AB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581000"/>
            <a:ext cx="78436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Физиологија чула </a:t>
            </a:r>
            <a:br>
              <a:rPr sz="4000"/>
            </a:br>
            <a:r>
              <a:rPr b="0" lang="sr-Latn-CS" sz="4000" spc="-1" strike="noStrike">
                <a:solidFill>
                  <a:srgbClr val="000099"/>
                </a:solidFill>
                <a:latin typeface="Arial"/>
              </a:rPr>
              <a:t>Испитивиње чула вида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68360" y="333360"/>
            <a:ext cx="7416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ултет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дицин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 нау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Крагујев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Е СТРУКОВНЕ СТУДИЈ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0"/>
            <a:ext cx="971640" cy="1484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6049080" y="6068880"/>
            <a:ext cx="28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Катедра за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ф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изиолог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ВЕЖБА 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Еметропија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значава нормална рефракциона својства ока када су моћ преламања и дужина очне јабучице подешени тако да омогућују стварање оштрог, јасног лика посматраног предмета на мрежњач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оремећаји рефракционе моћи диоптричког апарата ока (појава да се у оку које не акомодира лик ствара испред или иза мрежњаче) се називају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sr-CS" sz="2200" spc="-1" strike="noStrike" u="sng">
                <a:solidFill>
                  <a:srgbClr val="000099"/>
                </a:solidFill>
                <a:uFillTx/>
                <a:latin typeface="Arial"/>
              </a:rPr>
              <a:t>миопија </a:t>
            </a:r>
            <a:r>
              <a:rPr b="1" lang="sr-C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sr-Latn-CS" sz="2200" spc="-1" strike="noStrike">
                <a:solidFill>
                  <a:srgbClr val="000099"/>
                </a:solidFill>
                <a:latin typeface="Calibri"/>
              </a:rPr>
              <a:t>myopia</a:t>
            </a:r>
            <a:r>
              <a:rPr b="0" lang="sr-CS" sz="22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0" lang="sr-Latn-CS" sz="2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кратковидост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sr-CS" sz="2200" spc="-1" strike="noStrike" u="sng">
                <a:solidFill>
                  <a:srgbClr val="000099"/>
                </a:solidFill>
                <a:uFillTx/>
                <a:latin typeface="Arial"/>
              </a:rPr>
              <a:t>хиперметропија</a:t>
            </a:r>
            <a:r>
              <a:rPr b="1" lang="sr-C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sr-Latn-CS" sz="2200" spc="-1" strike="noStrike">
                <a:solidFill>
                  <a:srgbClr val="000099"/>
                </a:solidFill>
                <a:latin typeface="Calibri"/>
              </a:rPr>
              <a:t>hypermetropia</a:t>
            </a:r>
            <a:r>
              <a:rPr b="0" lang="sr-CS" sz="2200" spc="-1" strike="noStrike">
                <a:solidFill>
                  <a:srgbClr val="000099"/>
                </a:solidFill>
                <a:latin typeface="Calibri"/>
              </a:rPr>
              <a:t>),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 хиперопиа-далековидост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Узрок ових поремећаја ј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овећање преломне моћи ока 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или повећање уздужне осовине очне јабучице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код миоп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мањење преломне моћи ока 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или смањење уздужне осовине очне јабучице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код хиперметроп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50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Код еметропа најдаља тачка јасног вида се налази на растојању од 6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m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  <a:ea typeface="Arial"/>
              </a:rPr>
              <a:t> или даље (у бесконачности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Код хиперметропа најдаља тачка јасног вида је иреална (јер не виде на даљину без акомодације) и налази се иза ок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Код миопа најдаља тачка јасног вида се налази на растојању ближем од 6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m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  <a:ea typeface="Arial"/>
              </a:rPr>
              <a:t> (што је миопија већа то је </a:t>
            </a:r>
            <a:r>
              <a:rPr b="0" lang="sr-Latn-CS" sz="26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ближи оку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  <a:ea typeface="Arial"/>
              </a:rPr>
              <a:t>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  <a:ea typeface="Arial"/>
              </a:rPr>
              <a:t>Најближа тачка јасног вида код миопа је на мањем, а код хиперметропа на већем одстојању од ока него код еметроп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179280" y="620640"/>
            <a:ext cx="92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Хиперметропија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hypermetropia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, хиперопиа-далековид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0" y="2421000"/>
            <a:ext cx="42847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ЛИК СЕ (БЕЗ УЧЕШЋА АКОМОДАЦИЈЕ) СТВАРА ИЗА МРЕЖЊАЧ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СЕ НАЛАЗИ     ИЗА ОКА, И ИРЕАЛНА ЈЕ, ЈЕР ОВЕ ОСОБЕ НЕ ВИДЕ НА ДАЉИН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БЕЗ АКОМОДАЦ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99"/>
                </a:solidFill>
                <a:latin typeface="Arial"/>
              </a:rPr>
              <a:t>PUNCTUM PROXIMUM</a:t>
            </a: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ЈЕ НА ВЕЋЕМ ОДСТОЈАЊУ ОД ОКА НЕГО КОД ЕМЕТРОП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7" descr=""/>
          <p:cNvPicPr/>
          <p:nvPr/>
        </p:nvPicPr>
        <p:blipFill>
          <a:blip r:embed="rId1"/>
          <a:stretch/>
        </p:blipFill>
        <p:spPr>
          <a:xfrm>
            <a:off x="4211640" y="1989000"/>
            <a:ext cx="45482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Миопија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myopia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-кратковидост</a:t>
            </a:r>
            <a:endParaRPr b="0" lang="en-US" sz="2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79280" y="1989000"/>
            <a:ext cx="403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ЛИК СЕ (БЕЗ УЧЕШЋА АКОМОДАЦИЈЕ) СТВАРА ИСПРЕД МРЕЖЊАЧ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СЕ НАЛАЗИ НА РАСТОЈАЊУ БЛИЖЕМ ОД 6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(ШТО ЈЕ МИОПИЈА ВЕЋА ТО ЈЕ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БЛИЖИ ОК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PUNCTUM PROXIMU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ЈЕ НА МАЊЕМ ОДСТОЈАЊУ ОД ОКА НЕГО КОД ЕМЕТРО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284720" y="1771560"/>
            <a:ext cx="4402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99"/>
                </a:solidFill>
                <a:latin typeface="Arial"/>
              </a:rPr>
              <a:t>Таблица са оптотипима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6326280" cy="515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300720" y="2924280"/>
            <a:ext cx="28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Могући налази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Испитивано око добро види и чита све редове у таблици-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еметропија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или 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латентна хиперметропија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.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Потом се ставља најслабије конвексно сочиво, па нешто јаче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- ако оба сочива доводе до лаког смањења јасноће оптотипа, онда је у питању 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еметропиј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- ако оба сочива доводе до повећања јасноће оптотипа, онда се наставља са стављањем све јачих конвексних сочива, тако да </a:t>
            </a:r>
            <a:r>
              <a:rPr b="1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најјаче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 сочиво које не смањује јасноћу оптотипа представља меру манифестне хиперметропиј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2.     Испитивано око не чита све редове оптотипа - 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миопија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или 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манифестна хиперметропија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Тада се стављају конкавна сочива (почев од најслабијег) све док се не постигне најбоља јасноћа оптотип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Најслабије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 конкавно сочиво које даје најбољу јасноћу оптотипа је мера миопиј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Ако конкавна сочива не поправљају слику прелази се на стваљање конвексних сочива и одреди се степен хиперметропиј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4400" y="40428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Вежба 2.</a:t>
            </a:r>
            <a:br>
              <a:rPr sz="3200"/>
            </a:b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ОДРЕЂИВАЊЕ ОШТРИНЕ ВИДА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а би посматрани предмет могао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јасно да се види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, његов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лик мора да се створи у жутој мрљи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мрежњаче - </a:t>
            </a:r>
            <a:r>
              <a:rPr b="0" i="1" lang="sr-Latn-CS" sz="2400" spc="-1" strike="noStrike">
                <a:solidFill>
                  <a:srgbClr val="000099"/>
                </a:solidFill>
                <a:latin typeface="Arial"/>
              </a:rPr>
              <a:t>fovea centralis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sr-Latn-CS" sz="2400" spc="-1" strike="noStrike">
                <a:solidFill>
                  <a:srgbClr val="000099"/>
                </a:solidFill>
                <a:latin typeface="Arial"/>
              </a:rPr>
              <a:t>macula lutea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у којој се налазе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само чепић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Јасноћа лика је све мања што се више удаљавамо од области жуте мрљ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Функцију централног дела ретине (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fove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 centralis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 испитујемо одређивањем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оштрине вида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isus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од оштрином вида се подразумева способност ока да јасно види одвојено две блиске тачк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ва моћ сепарације коју поседује мрежњача утолико је већа, уколико је око у стању да види као одвојене две тачке које су веома близу једна другој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07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штрина вида се изражава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најмањим видним углом који захватају зраци који од посматраних тачака иду до чворне тачке у оку при коме се две тачке још увек виде одвоје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вај угао се још назива и </a:t>
            </a:r>
            <a:r>
              <a:rPr b="0" i="1" lang="sr-Latn-CS" sz="2400" spc="-1" strike="noStrike">
                <a:solidFill>
                  <a:srgbClr val="000099"/>
                </a:solidFill>
                <a:latin typeface="Arial"/>
              </a:rPr>
              <a:t>minimum separabile (visibil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Физиолошки овај угао износи највише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1 мину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610080" cy="4886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5299920" y="98100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Ланделтови оптотип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На таблици са оптотипима, на растојању од 6 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, особа са нормалном оштрином вида треба прецизно да одређује положај отвора на кружићима у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десетом ред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020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Вежба 3.</a:t>
            </a: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br>
              <a:rPr sz="1000"/>
            </a:b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ОДРЕЂИВАЊЕ ШИРИНЕ ВИДНОГ ПОЉА ПОМОЋУ ПЕРИМЕТРА</a:t>
            </a:r>
            <a:br>
              <a:rPr sz="3200"/>
            </a:br>
            <a:br>
              <a:rPr sz="1000"/>
            </a:br>
            <a:r>
              <a:rPr b="0" lang="sr-CS" sz="1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2019240"/>
            <a:ext cx="84247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Видно поље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представља пројекцију оптичког дела ретине у простору (фоторецептора - чепића и штапића) и видног пута све до видног кортекса у окципиталном реж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ромене на ретини, и лезије било ког дела видног пута које спречавају спровођење импулса, ће узроковати дефекте у видном пољу на основу којих се може установити седиште лез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Периметрија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- метода којом се одређује ширина видног поља (границе видног поља) и осетљивост ретине унутар тих гран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Анатомија ока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ериметријом се испитује монокуларно видно поље (простор који видимо једним оком при погледу фиксираним у једну тачку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вај простор је ограничен величином рецептивне ретине и контурама лиц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У младих особа ширина видног поља за белу боју приближно износи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темпорално- 9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°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назално- 6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°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горе- 56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оле- 65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896000" y="3333600"/>
            <a:ext cx="42480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0358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99"/>
                </a:solidFill>
                <a:latin typeface="Arial"/>
              </a:rPr>
              <a:t>Ком</a:t>
            </a:r>
            <a:r>
              <a:rPr b="1" lang="sr-CS" sz="3200" spc="-1" strike="noStrike">
                <a:solidFill>
                  <a:srgbClr val="000099"/>
                </a:solidFill>
                <a:latin typeface="宋体"/>
              </a:rPr>
              <a:t>п</a:t>
            </a:r>
            <a:r>
              <a:rPr b="1" lang="sr-CS" sz="3200" spc="-1" strike="noStrike">
                <a:solidFill>
                  <a:srgbClr val="000099"/>
                </a:solidFill>
                <a:latin typeface="Arial"/>
              </a:rPr>
              <a:t>јутеризована перимитрија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6576840" cy="544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3132000" cy="26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5940360" y="4005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Промене у видном пољу настале услед оштећења видне функције могу се манифестовати као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99"/>
                </a:solidFill>
                <a:uFillTx/>
                <a:latin typeface="Calibri"/>
              </a:rPr>
              <a:t>Хемианопсије: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"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испадање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"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 половина видних поља оба ока (сужење видног поља без промене облика)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99"/>
                </a:solidFill>
                <a:uFillTx/>
                <a:latin typeface="Calibri"/>
              </a:rPr>
              <a:t>Скотоми: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 тачкасти испади у видном пољу (изоловане промене унутар граница видног поља)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Врсте хемианопсија према месту оштећења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296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4049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99"/>
                </a:solidFill>
                <a:latin typeface="Arial"/>
              </a:rPr>
              <a:t>Хемианопсије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3311280" cy="1774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0" y="2637000"/>
            <a:ext cx="295272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6191280" y="2637000"/>
            <a:ext cx="2952720" cy="1798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0" y="4941720"/>
            <a:ext cx="2952720" cy="191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5"/>
          <a:stretch/>
        </p:blipFill>
        <p:spPr>
          <a:xfrm>
            <a:off x="6156360" y="4941720"/>
            <a:ext cx="2987640" cy="1916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3060360" y="2708280"/>
            <a:ext cx="31662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Calibri"/>
              </a:rPr>
              <a:t>обострано уредна видна по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227640" y="2276640"/>
            <a:ext cx="29163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назална хемианопсиј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2276640"/>
            <a:ext cx="30592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темпорална хемианоп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240" y="4580640"/>
            <a:ext cx="39146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евострана хомонимна хемианопсиј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960440" y="4580640"/>
            <a:ext cx="42984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снострана хомонимна хемианоп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Значај периметријског налаза</a:t>
            </a:r>
            <a:endParaRPr b="0" lang="en-US" sz="2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Битемпорална хемианопсија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лезије </a:t>
            </a:r>
            <a:r>
              <a:rPr b="0" lang="sr-CS" sz="2600" spc="-1" strike="noStrike" u="sng">
                <a:solidFill>
                  <a:srgbClr val="000099"/>
                </a:solidFill>
                <a:uFillTx/>
                <a:latin typeface="Arial"/>
              </a:rPr>
              <a:t>медијалних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снопова оптичких нерава (трауме, крварења, тумори хипофизе)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Биназална хемианопсија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лезије </a:t>
            </a:r>
            <a:r>
              <a:rPr b="0" lang="sr-CS" sz="2600" spc="-1" strike="noStrike" u="sng">
                <a:solidFill>
                  <a:srgbClr val="000099"/>
                </a:solidFill>
                <a:uFillTx/>
                <a:latin typeface="Arial"/>
              </a:rPr>
              <a:t>латералних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снопова оптичких нерава (трауме, крварења, тумори одговарајућих – предњих латералних делова мозга)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Левострана хомонимна хемианопсија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лезије оптичког пута (</a:t>
            </a:r>
            <a:r>
              <a:rPr b="0" lang="sr-CS" sz="2600" spc="-1" strike="noStrike" u="sng">
                <a:solidFill>
                  <a:srgbClr val="000099"/>
                </a:solidFill>
                <a:uFillTx/>
                <a:latin typeface="Arial"/>
              </a:rPr>
              <a:t>после хијазме),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или видне коре са десне стране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Деснострана хомонимна хемианопсија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лезије оптичког пута (</a:t>
            </a:r>
            <a:r>
              <a:rPr b="0" lang="sr-CS" sz="2600" spc="-1" strike="noStrike" u="sng">
                <a:solidFill>
                  <a:srgbClr val="000099"/>
                </a:solidFill>
                <a:uFillTx/>
                <a:latin typeface="Arial"/>
              </a:rPr>
              <a:t>после хијазме)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или видне коре са леве стране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0338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4248000" cy="4537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971640" y="40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Нормалан в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583240" y="40464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кото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Клинички значај скотома:</a:t>
            </a:r>
            <a:br>
              <a:rPr sz="2600"/>
            </a:b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код тачкастих оштећења ретине (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S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демијелинизациј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глауком, тровање оловом...) </a:t>
            </a:r>
            <a:endParaRPr b="0" lang="en-US" sz="26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0201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Вежба 4.</a:t>
            </a:r>
            <a:br>
              <a:rPr sz="3200"/>
            </a:b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ДОКАЗИВАЊЕ ПОСТОЈАЊА СЛЕПЕ МРЉЕ (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ARIOTT-</a:t>
            </a: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ов оглед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442764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036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На оптичком делу ретине који одговара месту одакле излази оптички нерв (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papila nervi optici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нема фоторецепторских ћелија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(чепића и штапића)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вај део ретине се назива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слепом мрљом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, јер се предмети чији се лик формира на њему не виде.</a:t>
            </a:r>
            <a:r>
              <a:rPr b="1" lang="sr-CS" sz="2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0" y="3573360"/>
            <a:ext cx="4716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108000" y="0"/>
            <a:ext cx="5057640" cy="244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5811840" y="2924280"/>
            <a:ext cx="3332160" cy="33573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5364000" y="692280"/>
            <a:ext cx="324036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99"/>
                </a:solidFill>
                <a:latin typeface="Calibri"/>
              </a:rPr>
              <a:t>Таблица за извођењ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99"/>
                </a:solidFill>
                <a:latin typeface="Calibri"/>
              </a:rPr>
              <a:t>Мариотовог огле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108000" y="2441520"/>
            <a:ext cx="5616360" cy="4318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Извођење огле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таблица на 40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c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крстић испред левог, круг испред десног о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затворити лево око, десним фиксирати крстић и примицати таблицу оч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на око 15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c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од ока ишчезава круг (слика му је на слепој мрљи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поновити обрнути поступак за друго о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Схема која показује положај када се лик кружића који не фиксирамо (плава линија) ствара на слепој мрљ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док се лик крстића који фиксирамо (црвена линија) ствара у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fov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centralis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02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Вежба 5.</a:t>
            </a: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0" lang="sr-CS" sz="3600" spc="-1" strike="noStrike">
                <a:solidFill>
                  <a:srgbClr val="000099"/>
                </a:solidFill>
                <a:latin typeface="Arial"/>
              </a:rPr>
              <a:t>Испитивање квалитета колорног вида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пособност распознавања боја је функција чепића који се раздражују светлошћу таласне дужине 350-750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m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видни спектар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Унутар видног спектра свака боја има различиту таласну дужину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Јунг-Хелмхолцова теорија -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постоје три различита типа чепића од којих је сваки максимално осетљив на једну од три основне боје: црвену, зелену и затвореноплав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353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Када светлосни зраци који путују напред у снопу, падну на додирну површину која је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вертикалн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на сноп зрака, они улазе у средину са другачијим индексом преламања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не мењајући правац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простирањ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Ако светлосни зраци падну на додирну површину која стоји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под углом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, они се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савијају ако је индекс преламања двеју средина различит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авијање светлосних зрака на косој додирној површини назива се </a:t>
            </a:r>
            <a:r>
              <a:rPr b="1" i="1" lang="sr-CS" sz="2800" spc="-1" strike="noStrike">
                <a:solidFill>
                  <a:srgbClr val="000099"/>
                </a:solidFill>
                <a:latin typeface="Arial"/>
              </a:rPr>
              <a:t>преламање (рефракција)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964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соба која разликује све три основне боје се назива 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трихроматом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, а особина 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трихромазијом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собе које могу да разликују само две боје зову се 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дихромати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, а особина 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дихромазијом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Постоје следећи облици дихромазиј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Arial"/>
              </a:rPr>
              <a:t>Протанопиј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- немогућност разликовања црвене бој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sr-CS" sz="2800" spc="-1" strike="noStrike" u="sng">
                <a:solidFill>
                  <a:srgbClr val="008000"/>
                </a:solidFill>
                <a:uFillTx/>
                <a:latin typeface="Arial"/>
              </a:rPr>
              <a:t>Деутеранопиј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- немогућност разликовањ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зелене бој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Тританопиј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- немогућност разликовања плаве бој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собе које не распознају ниједну боју, све виде у сивој боји – </a:t>
            </a:r>
            <a:r>
              <a:rPr b="1" lang="sr-CS" sz="2800" spc="-1" strike="noStrike" u="sng">
                <a:solidFill>
                  <a:srgbClr val="808080"/>
                </a:solidFill>
                <a:uFillTx/>
                <a:latin typeface="Arial"/>
              </a:rPr>
              <a:t>монохромазиј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Таблице за испитивање квалитета колорног вида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250920" y="0"/>
            <a:ext cx="856908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Уколико сочиво јаче савија светлосне зраке, утолико је већа његов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"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преломна моћ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“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Мера преломне моћи сочива назива се </a:t>
            </a:r>
            <a:r>
              <a:rPr b="1" i="1" lang="sr-CS" sz="2800" spc="-1" strike="noStrike">
                <a:solidFill>
                  <a:srgbClr val="000099"/>
                </a:solidFill>
                <a:latin typeface="Arial"/>
              </a:rPr>
              <a:t>диоптрија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490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417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99"/>
                </a:solidFill>
                <a:latin typeface="Calibri"/>
              </a:rPr>
              <a:t>Диоптрички апарат ока </a:t>
            </a:r>
            <a:r>
              <a:rPr b="0" lang="sr-CS" sz="3600" spc="-1" strike="noStrike">
                <a:solidFill>
                  <a:srgbClr val="000099"/>
                </a:solidFill>
                <a:latin typeface="Arial"/>
              </a:rPr>
              <a:t>чине: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Рожњача (</a:t>
            </a:r>
            <a:r>
              <a:rPr b="0" i="1" lang="sr-Latn-CS" sz="2800" spc="-1" strike="noStrike">
                <a:solidFill>
                  <a:srgbClr val="000099"/>
                </a:solidFill>
                <a:latin typeface="Arial"/>
              </a:rPr>
              <a:t>cornea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чна водица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sr-Latn-CS" sz="2800" spc="-1" strike="noStrike">
                <a:solidFill>
                  <a:srgbClr val="000099"/>
                </a:solidFill>
                <a:latin typeface="Arial"/>
              </a:rPr>
              <a:t>humor aquosus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очиво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sr-Latn-CS" sz="2800" spc="-1" strike="noStrike">
                <a:solidFill>
                  <a:srgbClr val="000099"/>
                </a:solidFill>
                <a:latin typeface="Arial"/>
              </a:rPr>
              <a:t>lens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такласто тело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sr-Latn-CS" sz="2800" spc="-1" strike="noStrike">
                <a:solidFill>
                  <a:srgbClr val="000099"/>
                </a:solidFill>
                <a:latin typeface="Arial"/>
              </a:rPr>
              <a:t>corpus vitreous 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ве ове структуре, које су раздвојене сферним површинама чији се центри кривина налазе на једној правој линиј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птичкој осовин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, имају различити индекс преламања и омогућавају, у одсуству акомодације, јасно виђење предмета који се налазе на одстојањима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већим од 6 метар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Вежба 1.</a:t>
            </a:r>
            <a:br>
              <a:rPr sz="3200"/>
            </a:b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99"/>
                </a:solidFill>
                <a:latin typeface="Arial"/>
              </a:rPr>
              <a:t>ОДРЕЂИВАЊЕ НАЈБЛИЖЕ И НАЈДАЉЕ ТАЧКЕ ЈАСНОГ ВИДА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4960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Акомодација представља сложени рефлексни механизам промене конвекситета (радијуса кривине) еластичног сочива (мења се укупна преломна моћ ока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пособност акомодације се може изразити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ширином акомодационог поља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Ширина акомодационог поља је одређена растојањем (у метрима) између тзв.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најближе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 најдаље тачке јасног вид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пособност акомодације изражена у диоптријама код особа између 20 и 30 год. се креће од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10-20 диоптриј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тарењем се смањује и после 70. год. је потпуно изгубљен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u="sng">
                <a:solidFill>
                  <a:srgbClr val="000099"/>
                </a:solidFill>
                <a:uFillTx/>
                <a:latin typeface="Arial"/>
              </a:rPr>
              <a:t>Најближа тачка јасног вида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sr-Latn-CS" sz="3000" spc="-1" strike="noStrike">
                <a:solidFill>
                  <a:srgbClr val="000099"/>
                </a:solidFill>
                <a:latin typeface="Arial"/>
              </a:rPr>
              <a:t>punctum proximum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) је место најближе оку на коме се предмети још могу јасно видети при </a:t>
            </a:r>
            <a:r>
              <a:rPr b="0" lang="sr-CS" sz="3000" spc="-1" strike="noStrike" u="sng">
                <a:solidFill>
                  <a:srgbClr val="000099"/>
                </a:solidFill>
                <a:uFillTx/>
                <a:latin typeface="Arial"/>
              </a:rPr>
              <a:t>максималној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 акомодацији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Физиолошки се (код младих особа) налази на растојању од око 25 </a:t>
            </a:r>
            <a:r>
              <a:rPr b="0" lang="sr-Latn-CS" sz="3000" spc="-1" strike="noStrike">
                <a:solidFill>
                  <a:srgbClr val="000099"/>
                </a:solidFill>
                <a:latin typeface="Arial"/>
              </a:rPr>
              <a:t>cm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 од ока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Старењем се ово растојање повећава (150 </a:t>
            </a:r>
            <a:r>
              <a:rPr b="0" lang="sr-Latn-CS" sz="3000" spc="-1" strike="noStrike">
                <a:solidFill>
                  <a:srgbClr val="000099"/>
                </a:solidFill>
                <a:latin typeface="Arial"/>
              </a:rPr>
              <a:t>cm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 од ока код особа од 80 год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124000" y="4581360"/>
            <a:ext cx="504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Најдаља тачка јасног вид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) је место најближе оку на коме се предмет види јасно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без акомодације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Физиолошки се налази на растојању од 6 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од ок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д овог растојања и даље, акомодације више нема јер се зраци, полазећи са ове даљине и из бесконачности, кроз оптички систем ока ломе тако да се састају у једној тачки на мрежњачи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979640" y="4724280"/>
            <a:ext cx="5472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Удаљавање најближе тачке јасног вида у старости настаје због губитка еластичности сочива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00099"/>
                </a:solidFill>
                <a:uFillTx/>
                <a:latin typeface="Calibri"/>
              </a:rPr>
              <a:t>старачка далековидост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 (</a:t>
            </a:r>
            <a:r>
              <a:rPr b="1" lang="sr-Latn-CS" sz="3200" spc="-1" strike="noStrike">
                <a:solidFill>
                  <a:srgbClr val="000099"/>
                </a:solidFill>
                <a:latin typeface="Calibri"/>
              </a:rPr>
              <a:t>presbyopia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alibri"/>
              </a:rPr>
              <a:t>Presbyopia 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не утиче на </a:t>
            </a:r>
            <a:r>
              <a:rPr b="0" lang="sr-Latn-CS" sz="3200" spc="-1" strike="noStrike">
                <a:solidFill>
                  <a:srgbClr val="000099"/>
                </a:solidFill>
                <a:latin typeface="Calibri"/>
              </a:rPr>
              <a:t>puntum remotum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-</a:t>
            </a:r>
            <a:r>
              <a:rPr b="0" lang="sr-Latn-C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она остаје у стању у којем је била пре појаве презбиопиј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4362480" y="4005360"/>
            <a:ext cx="4781520" cy="28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0" y="4005360"/>
            <a:ext cx="392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0:22:00Z</dcterms:created>
  <dc:creator>Zivkovic Dusan</dc:creator>
  <dc:description>Made by Leawo Software. To find more free PowerPoint templates, please visit http://www.leawo.com/free-powerpoint-templates/</dc:description>
  <cp:keywords>Medical Medical PowerPoint template free PowerPoint template download PPT template PowerPoint templates slideshow template POT POTX Power Point template slide show template</cp:keywords>
  <dc:language>en-US</dc:language>
  <cp:lastModifiedBy>User</cp:lastModifiedBy>
  <dcterms:modified xsi:type="dcterms:W3CDTF">2014-10-01T14:48:05Z</dcterms:modified>
  <cp:revision>56</cp:revision>
  <dc:subject>medical</dc:subject>
  <dc:title>Slide 1</dc:title>
</cp:coreProperties>
</file>